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3FC3-8C69-48DF-8383-DDC0C4922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CE31-3616-4104-BF28-0079AE5318D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CC926-227B-4B95-9508-6135BF68BCF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24EDE-827E-41DB-ACA1-290469085F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E22CB-1A02-4163-9FC7-07983CFBCE2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1AC4C-332A-4CDB-9300-B4CEA111FC6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8A3B9-8F76-4452-A69A-36AA77188CE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21A13-F112-4DD4-8F20-F51DBB6BE18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72C71-1394-49EE-A2ED-7AC67D6F2F0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74513-6B3E-41C5-89EF-22048F6743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D285C-D3EC-45EA-AA47-5702967C9C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E549-4EA7-4AC5-8E4C-6CEB998BB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492A-4F60-4D04-ABEB-C87C12C669B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2899C-3185-48EF-A9E1-2D36235406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28F9-F301-47F6-A3EF-FD4BF16E691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3E5F-C13C-45E8-88AE-155ECFF6A8D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14D1-CA78-4EF2-AA09-3BDA3ABBB0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D4014-6A88-4E3E-A0FA-D1F0CAEA865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9DA0E-F4D9-4F73-B020-20D2D76B63A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DE23-FCA1-450F-8968-B3B1C3FC21B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764C-D2D6-4424-A1D3-BD01AE8AED4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00B3-F05B-49FA-9B0F-16DADB99331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9965A-B25F-4B41-A718-C76A3DF63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FA3F-D813-4801-B508-9D0069EC94D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79E4-7E06-4301-95A1-30CC2787F40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685A8-1D58-4E99-A210-858097EBD56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52413-BB9D-4AC3-9CF2-BEAF7E3013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67176-1BED-430C-9FB5-CCF408B82E5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80D24-B904-4680-A7C6-934F02195B0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9F7B3-4FE1-4EC7-B2E0-469B7EF8A27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D2FB8-3B2B-4BAF-9E8F-5642CCCF0E0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098A1-99B7-4ABC-BD19-124FFB3DFCE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0478D5-0A26-47C6-A8C2-8980ED67E2E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02777-D22E-4BF1-A42D-4E99A894A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E48A5F-AAD0-4A0D-8B39-25C7BEFF894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3F712-6C39-4E20-9CAA-9DB68DF86E1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C41D0-C71E-43A0-82BB-6440E2AC865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84CAE-A89F-4E17-8825-8B30403534F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360FC-FD96-46C9-868D-7FF9F5CB258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5ADC6-FA72-4181-96D6-B6C73AD575E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877E35-5A59-4836-BD1D-FD929D4B46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CCEB1-13E1-457B-A6D7-E924ABD26B3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3177BF-2182-4EC0-8D66-BC6DEC1D9F7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9D0F0-5F4F-43E1-95A7-5941DCFC71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A6054-5AF7-4018-BFDE-98AEC23A0A8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AF7B9-A10A-4F10-9425-9E4D1D7DED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3591FF-1177-40FB-9917-C3597BB63E0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309B1-8E6F-4417-A904-B9D542047F8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34732-CBBD-4171-9190-4BEECB0165B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6745C-2D72-43A0-B159-B9917A958A8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6CEC-FF97-4087-8729-2685DBEF89E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961C-ED33-467F-983B-026425D5C92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4CFEF-6DBC-404B-82AE-7DCDA9684C7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562C9-1CFE-4B3C-8A90-3C2FD955A7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548EF-60DA-4653-BAFE-5DC62E45488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5EB6C-D874-4412-8275-9F033401BB6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99128-5320-4490-A099-5DAF618031C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7BA6-0561-4B62-8DA8-FC51F92EB1E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E888-09F7-482C-AA21-809EA2F4757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FD61D-5401-4C81-948E-8385C5AAB71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EB0F-E404-47A4-9552-547493CD24E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A15936-1788-494B-87EF-C4D19427467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CAB08-58D4-416E-AE9D-3ACDA776624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DF2CA1-FE93-4565-8BF2-A4128A6FF4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D27B1D-ACCB-4914-9D59-05D95ED3BE6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C0A50-6673-4AD6-8973-550E123667E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C8A0D1-252A-4A9B-BBC9-A9FC7028BAD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409159-5753-46F1-8FAE-EE740DE523E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C4FDA9-D95F-46BC-842F-197AED3BFAE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2BD136-73CA-42B0-A77F-0FCF8F06094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D6C194-CF1E-4214-A99B-B9E414DC755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185967-23CB-4268-860D-3A43482A926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5ED0B-2D9E-4435-969A-E8D4428B222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0FBDE-4E1C-4E92-BB02-DD6D10B594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0BB97-A6FC-4929-A182-CBD82FAB507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73B2B-BD8C-4718-AE82-9E3746A603F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3BCA0-EA07-4616-B8DF-12E477366F2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1C200-7534-4ABC-95EA-CDF08FA1934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F5987-A8CE-45DA-8EE0-4033B9A524D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1DAAA-AF96-4F5C-A3C0-FC85C268FF8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E4B96-2AE1-4A5A-8ABB-57C043DC45B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5A4B2-9CF9-4839-A66B-77446EADA8C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F15A5-3DF7-4F89-998C-B64CC0EE836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439C4-3FC2-40DC-A2A4-50FFC02440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48E2A-C539-47AA-A97A-8CD318EFDB8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0E5F-A6F9-497A-B16E-E6E2A1477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8D7A-47BA-4384-9AA6-9F74A77D75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06DF-13A1-4C7D-8DE6-ADCBE56F5B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A659-81A1-4FE8-973D-5EB87474D0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708F-F515-436C-8D88-B637AB1EC0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93F4-C71D-4B5A-952E-159CD6C9B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9D32-A582-41F4-9798-17FA3D3298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712A-5114-4C43-820B-D5206B44F1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C11B-9C13-446B-BE02-BF3CD249E6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05CC-B2A7-4730-8ED7-ED59ED2C39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732F4-D2CD-433F-8350-FB7CA4BEE9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88F3-3319-481B-B332-9BFEABFB6B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39B0-31AB-47DB-BA05-F72FE82CB4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4CA5-21CF-408C-84D6-13AF13F138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BDD-6485-4205-9194-1CE308CE0F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280-F178-45D8-A6CF-C787CE2CD1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914-D58A-4023-B1C0-925594AAD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92B8-4FD1-4F82-AB93-F40B1C6CC0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54C-9F37-4400-B94B-ACB0CBE144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4E4-3A88-4A2C-9E88-3CC03A726A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FB6-7FB4-4016-85D5-D16575A960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8DF-F218-4E3E-BFE0-8F0373B75C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DFD-5446-4412-81DD-6C8BFF04A4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135-58CC-4678-A789-A7ABEED266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1B4-DC79-4EA9-ABF6-1D1C2F5EA0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61E-53F0-4564-94B6-591EEDFA2A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A5F-3412-4597-8EB9-76CBE0ACFD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7AABD-4B65-41F2-A8FA-911A223D7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E971-552B-4BCA-AAF3-D0461433CAB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722B3-3C50-4E25-8FCF-6C18EBBE74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E8FC8-60C6-4BF4-84F2-BFBB43FBE42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0BC31-0C66-444F-BE0D-5B40F0CD801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C6072-23AC-4FB2-9108-38B008F3FC5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2B6BC-3A8B-4E7D-A120-1B5594F70D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68CDA-FFCF-4B7A-A00B-068DEA7AC9A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40A6C-0D61-4D5A-B5B4-311D7D93FB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13011-8E32-4A8D-A642-14179C726A6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BB136-1AB1-4E44-B8AF-A295B14F6E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585A0-BDBB-4D2D-9D0A-4F2DE8A49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AB06-4649-4F95-9BB5-56A24F1A6BE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1D09F-EB9B-425F-8F4F-7E3F1E28E61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05014-A4D8-4427-A26A-B2C58BDEF9E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77E17-7C3D-40CE-B836-8F896A6C93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87F9B-C17E-42E3-84B1-4BB6E569CC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0FA29-320F-4C2E-A77E-8FE73DF0F1E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59D73-8CF1-46A5-8488-C59A343E17C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9BEBC-B121-4BDC-A087-95F119C5AC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88B10-2B88-4122-A344-19A8FFF06BF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39145-1BC2-418F-AE55-6F2042C408C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554C6-51D8-4EF6-83DB-6164DFBF7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F0DE-61CD-432F-842E-F8D832F1F5C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1FDFC-E02D-448E-B95A-7FCFB4F7BCF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DC005-1C43-4E4E-BDB4-C528071112E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853C4-DB85-43DD-933D-9829D3B822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2166-0633-4165-A6FF-415715B233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F6FB-4928-4301-938B-AFD8C956F4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8A8F-4027-44A0-A307-1888B724B1E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963E-32BF-4CEB-BA55-689E156907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6EF0-C96B-43B4-B975-AF4EBE0EC49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126B-35A0-4E18-88DC-9A0BC6F738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16E1-9FB1-4A39-B2CE-89D7A6CD1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4B97-B025-4205-860C-89F37064681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2995-8E7F-44A4-AF04-64A3E5FA1A5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4D68-7B11-4602-85FB-77998E412B7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5975-41CA-4A4A-9033-0EAB5C4C61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56F2-9F3C-4591-AC8D-494E0AB59EB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B6CC-256B-4F77-B0FA-E82503589D0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F7791-4F8A-4895-AE76-5997DAA1E7F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82614-DAF0-4DF7-AD48-35418C3FD2A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41AD7-FB70-4D47-A03D-619F2B5BED4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2B53F-5ABE-412A-9415-83C891D8DAC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6C34A-5074-4910-A574-CAB970BA6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8C93-2F4D-4117-B29C-1DF541EE4AC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C81B15-1A96-4DDC-BC2F-4B670260E30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F6AEB-1152-45A0-88B1-0CF79602124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EE983B-A8D5-4899-8518-52DDC02C500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D9A41F-C594-4520-A625-70BCA9736EC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878598-E396-4FBD-9B71-7427EF77CA1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116E4-941F-497E-BC7B-6E152696FB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51010-BD59-4165-B84F-E8041B9F059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BB9C9-9CEB-4DDA-8EF0-CA631FE2451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AD832-83E8-425B-A90B-81F3586F670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743E1-8CF6-4217-B8B0-3EB1C0F01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9360" y="6381720"/>
            <a:ext cx="19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21F7-AD83-4B6D-9278-B6A43C1F5B5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2"/>
          <p:cNvSpPr/>
          <p:nvPr/>
        </p:nvSpPr>
        <p:spPr>
          <a:xfrm>
            <a:off x="395280" y="6389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9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E058ABE-D9D6-423D-97D7-46AA5458DA6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2"/>
          <p:cNvSpPr/>
          <p:nvPr/>
        </p:nvSpPr>
        <p:spPr>
          <a:xfrm>
            <a:off x="404640" y="638964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10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4D1E97B-2FC9-4E2C-97AE-623E3E49F9E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2"/>
          <p:cNvSpPr/>
          <p:nvPr/>
        </p:nvSpPr>
        <p:spPr>
          <a:xfrm>
            <a:off x="384120" y="635148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11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C6C01C9-7322-4898-B8F5-D2961220F7F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2"/>
          <p:cNvSpPr/>
          <p:nvPr/>
        </p:nvSpPr>
        <p:spPr>
          <a:xfrm>
            <a:off x="384120" y="630864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Num" idx="12"/>
          </p:nvPr>
        </p:nvSpPr>
        <p:spPr>
          <a:xfrm>
            <a:off x="8757720" y="6381720"/>
            <a:ext cx="15588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A97B-1401-427D-B0EC-9CC8EC3FA4E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13"/>
          </p:nvPr>
        </p:nvSpPr>
        <p:spPr>
          <a:xfrm>
            <a:off x="8639280" y="656280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0372-70EB-4A4A-8817-96EE71A6295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392040" y="602136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14"/>
          </p:nvPr>
        </p:nvSpPr>
        <p:spPr>
          <a:xfrm>
            <a:off x="8639280" y="656280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2FCB-01DE-4863-B905-3784BDA5EE1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rostokąt 8"/>
          <p:cNvSpPr/>
          <p:nvPr/>
        </p:nvSpPr>
        <p:spPr>
          <a:xfrm>
            <a:off x="8233200" y="64533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D4D8-7844-428B-B390-01C0A48F7E49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rostokąt z zaokrąglonym rogiem 7"/>
          <p:cNvSpPr/>
          <p:nvPr/>
        </p:nvSpPr>
        <p:spPr>
          <a:xfrm flipV="1">
            <a:off x="0" y="-720"/>
            <a:ext cx="9144000" cy="4110120"/>
          </a:xfrm>
          <a:custGeom>
            <a:avLst/>
            <a:gdLst/>
            <a:ahLst/>
            <a:rect l="l" t="t" r="r" b="b"/>
            <a:pathLst>
              <a:path w="9144000" h="4110038">
                <a:moveTo>
                  <a:pt x="0" y="0"/>
                </a:moveTo>
                <a:lnTo>
                  <a:pt x="8458980" y="0"/>
                </a:lnTo>
                <a:cubicBezTo>
                  <a:pt x="8837306" y="0"/>
                  <a:pt x="9144000" y="306694"/>
                  <a:pt x="9144000" y="685020"/>
                </a:cubicBezTo>
                <a:lnTo>
                  <a:pt x="9144000" y="4110038"/>
                </a:lnTo>
                <a:lnTo>
                  <a:pt x="0" y="4110038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Łza 7"/>
          <p:cNvSpPr/>
          <p:nvPr/>
        </p:nvSpPr>
        <p:spPr>
          <a:xfrm rot="16200000">
            <a:off x="7125480" y="2975400"/>
            <a:ext cx="1638360" cy="1617480"/>
          </a:xfrm>
          <a:custGeom>
            <a:avLst/>
            <a:gdLst/>
            <a:ahLst/>
            <a:rect l="l" t="t" r="r" b="b"/>
            <a:pathLst>
              <a:path w="1638300" h="1617662">
                <a:moveTo>
                  <a:pt x="0" y="808831"/>
                </a:moveTo>
                <a:cubicBezTo>
                  <a:pt x="0" y="362126"/>
                  <a:pt x="366746" y="0"/>
                  <a:pt x="819150" y="0"/>
                </a:cubicBezTo>
                <a:lnTo>
                  <a:pt x="1638300" y="0"/>
                </a:lnTo>
                <a:lnTo>
                  <a:pt x="1638300" y="808831"/>
                </a:lnTo>
                <a:cubicBezTo>
                  <a:pt x="1638300" y="1255536"/>
                  <a:pt x="1271554" y="1617662"/>
                  <a:pt x="819150" y="1617662"/>
                </a:cubicBezTo>
                <a:cubicBezTo>
                  <a:pt x="366746" y="1617662"/>
                  <a:pt x="0" y="1255536"/>
                  <a:pt x="0" y="808831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rostokąt z zaokrąglonym rogiem 7"/>
          <p:cNvSpPr/>
          <p:nvPr/>
        </p:nvSpPr>
        <p:spPr>
          <a:xfrm flipV="1">
            <a:off x="0" y="-720"/>
            <a:ext cx="9144000" cy="5334120"/>
          </a:xfrm>
          <a:custGeom>
            <a:avLst/>
            <a:gdLst/>
            <a:ahLst/>
            <a:rect l="l" t="t" r="r" b="b"/>
            <a:pathLst>
              <a:path w="9144000" h="5334000">
                <a:moveTo>
                  <a:pt x="0" y="0"/>
                </a:moveTo>
                <a:lnTo>
                  <a:pt x="8254982" y="0"/>
                </a:lnTo>
                <a:cubicBezTo>
                  <a:pt x="8745973" y="0"/>
                  <a:pt x="9144000" y="398027"/>
                  <a:pt x="9144000" y="889018"/>
                </a:cubicBezTo>
                <a:lnTo>
                  <a:pt x="9144000" y="5334000"/>
                </a:lnTo>
                <a:lnTo>
                  <a:pt x="0" y="5334000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Łza 7"/>
          <p:cNvSpPr/>
          <p:nvPr/>
        </p:nvSpPr>
        <p:spPr>
          <a:xfrm rot="16200000">
            <a:off x="6963480" y="4524840"/>
            <a:ext cx="1638360" cy="1617480"/>
          </a:xfrm>
          <a:custGeom>
            <a:avLst/>
            <a:gdLst/>
            <a:ahLst/>
            <a:rect l="l" t="t" r="r" b="b"/>
            <a:pathLst>
              <a:path w="1638300" h="1617662">
                <a:moveTo>
                  <a:pt x="0" y="808831"/>
                </a:moveTo>
                <a:cubicBezTo>
                  <a:pt x="0" y="362126"/>
                  <a:pt x="366746" y="0"/>
                  <a:pt x="819150" y="0"/>
                </a:cubicBezTo>
                <a:lnTo>
                  <a:pt x="1638300" y="0"/>
                </a:lnTo>
                <a:lnTo>
                  <a:pt x="1638300" y="808831"/>
                </a:lnTo>
                <a:cubicBezTo>
                  <a:pt x="1638300" y="1255536"/>
                  <a:pt x="1271554" y="1617662"/>
                  <a:pt x="819150" y="1617662"/>
                </a:cubicBezTo>
                <a:cubicBezTo>
                  <a:pt x="366746" y="1617662"/>
                  <a:pt x="0" y="1255536"/>
                  <a:pt x="0" y="808831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rostokąt z zaokrąglonym rogiem 7"/>
          <p:cNvSpPr/>
          <p:nvPr/>
        </p:nvSpPr>
        <p:spPr>
          <a:xfrm flipV="1">
            <a:off x="0" y="0"/>
            <a:ext cx="9144000" cy="1373040"/>
          </a:xfrm>
          <a:custGeom>
            <a:avLst/>
            <a:gdLst/>
            <a:ahLst/>
            <a:rect l="l" t="t" r="r" b="b"/>
            <a:pathLst>
              <a:path w="9144000" h="1373188">
                <a:moveTo>
                  <a:pt x="0" y="0"/>
                </a:moveTo>
                <a:lnTo>
                  <a:pt x="8915131" y="0"/>
                </a:lnTo>
                <a:cubicBezTo>
                  <a:pt x="9041532" y="0"/>
                  <a:pt x="9144000" y="102468"/>
                  <a:pt x="9144000" y="228869"/>
                </a:cubicBezTo>
                <a:lnTo>
                  <a:pt x="9144000" y="1373188"/>
                </a:lnTo>
                <a:lnTo>
                  <a:pt x="0" y="1373188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Łza 7"/>
          <p:cNvSpPr/>
          <p:nvPr/>
        </p:nvSpPr>
        <p:spPr>
          <a:xfrm rot="16200000">
            <a:off x="7385040" y="426960"/>
            <a:ext cx="1447920" cy="1454400"/>
          </a:xfrm>
          <a:custGeom>
            <a:avLst/>
            <a:gdLst/>
            <a:ahLst/>
            <a:rect l="l" t="t" r="r" b="b"/>
            <a:pathLst>
              <a:path w="1447800" h="1454150">
                <a:moveTo>
                  <a:pt x="0" y="727075"/>
                </a:moveTo>
                <a:cubicBezTo>
                  <a:pt x="0" y="325523"/>
                  <a:pt x="324101" y="0"/>
                  <a:pt x="723900" y="0"/>
                </a:cubicBezTo>
                <a:lnTo>
                  <a:pt x="1447800" y="0"/>
                </a:lnTo>
                <a:lnTo>
                  <a:pt x="1447800" y="727075"/>
                </a:lnTo>
                <a:cubicBezTo>
                  <a:pt x="1447800" y="1128627"/>
                  <a:pt x="1123699" y="1454150"/>
                  <a:pt x="723900" y="1454150"/>
                </a:cubicBezTo>
                <a:cubicBezTo>
                  <a:pt x="324101" y="1454150"/>
                  <a:pt x="0" y="1128627"/>
                  <a:pt x="0" y="727075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579600" y="816120"/>
            <a:ext cx="8013600" cy="47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117360" indent="-11736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Łza 6"/>
          <p:cNvSpPr/>
          <p:nvPr/>
        </p:nvSpPr>
        <p:spPr>
          <a:xfrm>
            <a:off x="3513240" y="0"/>
            <a:ext cx="5630760" cy="5454720"/>
          </a:xfrm>
          <a:custGeom>
            <a:avLst/>
            <a:gdLst/>
            <a:ahLst/>
            <a:rect l="l" t="t" r="r" b="b"/>
            <a:pathLst>
              <a:path w="5630862" h="5454650">
                <a:moveTo>
                  <a:pt x="0" y="2727325"/>
                </a:moveTo>
                <a:cubicBezTo>
                  <a:pt x="0" y="1221065"/>
                  <a:pt x="1260511" y="0"/>
                  <a:pt x="2815431" y="0"/>
                </a:cubicBezTo>
                <a:lnTo>
                  <a:pt x="5630862" y="0"/>
                </a:lnTo>
                <a:lnTo>
                  <a:pt x="5630862" y="2727325"/>
                </a:lnTo>
                <a:cubicBezTo>
                  <a:pt x="5630862" y="4233585"/>
                  <a:pt x="4370351" y="5454650"/>
                  <a:pt x="2815431" y="5454650"/>
                </a:cubicBezTo>
                <a:cubicBezTo>
                  <a:pt x="1260511" y="5454650"/>
                  <a:pt x="0" y="4233585"/>
                  <a:pt x="0" y="2727325"/>
                </a:cubicBez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Łza 7"/>
          <p:cNvSpPr/>
          <p:nvPr/>
        </p:nvSpPr>
        <p:spPr>
          <a:xfrm rot="16200000">
            <a:off x="2597760" y="2219760"/>
            <a:ext cx="3114720" cy="3218040"/>
          </a:xfrm>
          <a:custGeom>
            <a:avLst/>
            <a:gdLst/>
            <a:ahLst/>
            <a:rect l="l" t="t" r="r" b="b"/>
            <a:pathLst>
              <a:path w="3114675" h="3217863">
                <a:moveTo>
                  <a:pt x="0" y="1608932"/>
                </a:moveTo>
                <a:cubicBezTo>
                  <a:pt x="0" y="720343"/>
                  <a:pt x="697244" y="0"/>
                  <a:pt x="1557338" y="0"/>
                </a:cubicBezTo>
                <a:lnTo>
                  <a:pt x="3114675" y="0"/>
                </a:lnTo>
                <a:lnTo>
                  <a:pt x="3114675" y="1608932"/>
                </a:lnTo>
                <a:cubicBezTo>
                  <a:pt x="3114675" y="2497521"/>
                  <a:pt x="2417431" y="3217864"/>
                  <a:pt x="1557337" y="3217864"/>
                </a:cubicBezTo>
                <a:cubicBezTo>
                  <a:pt x="697243" y="3217864"/>
                  <a:pt x="-1" y="2497521"/>
                  <a:pt x="-1" y="1608932"/>
                </a:cubicBezTo>
                <a:lnTo>
                  <a:pt x="0" y="1608932"/>
                </a:ln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1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AB61-59ED-408E-B62B-16151B7D1EDA}" type="datetime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1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wiązek Miast Polsk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04DEC0A-6DCC-4339-AD4D-D847EBC4DC9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3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8B7821F-5A4A-444D-A170-69C8FCE2765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4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9C42EC0-C4C2-4003-9BFC-32F379CE346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5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984D5AF-A551-48A4-BF93-DC3DB39C7E3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6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F29246E-21FB-4AC3-9721-EF842DD4621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7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8EB4F88-4DE7-44EB-B785-00E4F089A28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8"/>
          </p:nvPr>
        </p:nvSpPr>
        <p:spPr>
          <a:xfrm>
            <a:off x="8788320" y="6381720"/>
            <a:ext cx="192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6143-3F2F-4D58-9FB2-FC3FDE530C1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Tytuł 1"/>
          <p:cNvGrpSpPr/>
          <p:nvPr/>
        </p:nvGrpSpPr>
        <p:grpSpPr>
          <a:xfrm>
            <a:off x="480960" y="311040"/>
            <a:ext cx="5797440" cy="3376800"/>
            <a:chOff x="480960" y="311040"/>
            <a:chExt cx="5797440" cy="3376800"/>
          </a:xfrm>
        </p:grpSpPr>
        <p:pic>
          <p:nvPicPr>
            <p:cNvPr id="836" name="Tytuł 1" descr=""/>
            <p:cNvPicPr/>
            <p:nvPr/>
          </p:nvPicPr>
          <p:blipFill>
            <a:blip r:embed="rId1"/>
            <a:stretch/>
          </p:blipFill>
          <p:spPr>
            <a:xfrm>
              <a:off x="480960" y="311040"/>
              <a:ext cx="5797440" cy="33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611280" y="439560"/>
              <a:ext cx="5538600" cy="31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6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Szkolenie PS3 / NS6</a:t>
              </a:r>
              <a:br>
                <a:rPr sz="4000"/>
              </a:br>
              <a:r>
                <a:rPr b="1" lang="pl-PL" sz="4000" spc="-1" strike="noStrike">
                  <a:solidFill>
                    <a:srgbClr val="ffffff"/>
                  </a:solidFill>
                  <a:latin typeface="Arial"/>
                </a:rPr>
                <a:t>Stosowanie narzędzi elektronicznych</a:t>
              </a:r>
              <a:br>
                <a:rPr sz="4000"/>
              </a:br>
              <a:br>
                <a:rPr sz="4000"/>
              </a:br>
              <a:r>
                <a:rPr b="1" lang="pl-PL" sz="4000" spc="-1" strike="noStrike">
                  <a:solidFill>
                    <a:srgbClr val="ffffff"/>
                  </a:solidFill>
                  <a:latin typeface="Arial"/>
                </a:rPr>
                <a:t>Urząd Miasta….. </a:t>
              </a:r>
              <a:br>
                <a:rPr sz="4000"/>
              </a:b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……………….20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pole tekstowe 13"/>
          <p:cNvSpPr/>
          <p:nvPr/>
        </p:nvSpPr>
        <p:spPr>
          <a:xfrm>
            <a:off x="146160" y="5807160"/>
            <a:ext cx="80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58595b"/>
                </a:solidFill>
                <a:latin typeface="Times New Roman CE"/>
                <a:ea typeface="Arial"/>
              </a:rPr>
              <a:t>Projekt: „Nowoczesne rozwiązania w obszarze podatków i opłat lokalnych  oraz zarządzania nieruchomościami dla 6 miast - członków Związku Miast Polskich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Obraz 15" descr=""/>
          <p:cNvPicPr/>
          <p:nvPr/>
        </p:nvPicPr>
        <p:blipFill>
          <a:blip r:embed="rId2"/>
          <a:stretch/>
        </p:blipFill>
        <p:spPr>
          <a:xfrm>
            <a:off x="765000" y="5200560"/>
            <a:ext cx="7016760" cy="549360"/>
          </a:xfrm>
          <a:prstGeom prst="rect">
            <a:avLst/>
          </a:prstGeom>
          <a:ln w="0">
            <a:noFill/>
          </a:ln>
        </p:spPr>
      </p:pic>
      <p:pic>
        <p:nvPicPr>
          <p:cNvPr id="840" name="Grafika 2" descr=""/>
          <p:cNvPicPr/>
          <p:nvPr/>
        </p:nvPicPr>
        <p:blipFill>
          <a:blip r:embed="rId3"/>
          <a:stretch/>
        </p:blipFill>
        <p:spPr>
          <a:xfrm>
            <a:off x="1982880" y="4429080"/>
            <a:ext cx="561960" cy="665280"/>
          </a:xfrm>
          <a:prstGeom prst="rect">
            <a:avLst/>
          </a:prstGeom>
          <a:ln w="0">
            <a:noFill/>
          </a:ln>
        </p:spPr>
      </p:pic>
      <p:pic>
        <p:nvPicPr>
          <p:cNvPr id="841" name="Grafika 5" descr=""/>
          <p:cNvPicPr/>
          <p:nvPr/>
        </p:nvPicPr>
        <p:blipFill>
          <a:blip r:embed="rId4"/>
          <a:stretch/>
        </p:blipFill>
        <p:spPr>
          <a:xfrm>
            <a:off x="2682720" y="4429080"/>
            <a:ext cx="465120" cy="558720"/>
          </a:xfrm>
          <a:prstGeom prst="rect">
            <a:avLst/>
          </a:prstGeom>
          <a:ln w="0">
            <a:noFill/>
          </a:ln>
        </p:spPr>
      </p:pic>
      <p:pic>
        <p:nvPicPr>
          <p:cNvPr id="842" name="Grafika 7" descr=""/>
          <p:cNvPicPr/>
          <p:nvPr/>
        </p:nvPicPr>
        <p:blipFill>
          <a:blip r:embed="rId5"/>
          <a:stretch/>
        </p:blipFill>
        <p:spPr>
          <a:xfrm>
            <a:off x="3365640" y="4429080"/>
            <a:ext cx="509400" cy="606600"/>
          </a:xfrm>
          <a:prstGeom prst="rect">
            <a:avLst/>
          </a:prstGeom>
          <a:ln w="0">
            <a:noFill/>
          </a:ln>
        </p:spPr>
      </p:pic>
      <p:pic>
        <p:nvPicPr>
          <p:cNvPr id="843" name="Grafika 9" descr=""/>
          <p:cNvPicPr/>
          <p:nvPr/>
        </p:nvPicPr>
        <p:blipFill>
          <a:blip r:embed="rId6"/>
          <a:stretch/>
        </p:blipFill>
        <p:spPr>
          <a:xfrm>
            <a:off x="4095720" y="4268880"/>
            <a:ext cx="473040" cy="741240"/>
          </a:xfrm>
          <a:prstGeom prst="rect">
            <a:avLst/>
          </a:prstGeom>
          <a:ln w="0">
            <a:noFill/>
          </a:ln>
        </p:spPr>
      </p:pic>
      <p:pic>
        <p:nvPicPr>
          <p:cNvPr id="844" name="Grafika 11" descr=""/>
          <p:cNvPicPr/>
          <p:nvPr/>
        </p:nvPicPr>
        <p:blipFill>
          <a:blip r:embed="rId7"/>
          <a:stretch/>
        </p:blipFill>
        <p:spPr>
          <a:xfrm>
            <a:off x="4811760" y="4448160"/>
            <a:ext cx="473040" cy="549360"/>
          </a:xfrm>
          <a:prstGeom prst="rect">
            <a:avLst/>
          </a:prstGeom>
          <a:ln w="0">
            <a:noFill/>
          </a:ln>
        </p:spPr>
      </p:pic>
      <p:pic>
        <p:nvPicPr>
          <p:cNvPr id="845" name="Grafika 14" descr=""/>
          <p:cNvPicPr/>
          <p:nvPr/>
        </p:nvPicPr>
        <p:blipFill>
          <a:blip r:embed="rId8"/>
          <a:stretch/>
        </p:blipFill>
        <p:spPr>
          <a:xfrm>
            <a:off x="5514840" y="4448160"/>
            <a:ext cx="48276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20480" y="942480"/>
            <a:ext cx="788652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0480" y="942480"/>
            <a:ext cx="788652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08:34:56Z</dcterms:created>
  <dc:creator>User</dc:creator>
  <dc:description/>
  <dc:language>en-US</dc:language>
  <cp:lastModifiedBy>Sylwia</cp:lastModifiedBy>
  <cp:lastPrinted>2019-02-21T10:31:22Z</cp:lastPrinted>
  <dcterms:modified xsi:type="dcterms:W3CDTF">2019-05-21T10:34:01Z</dcterms:modified>
  <cp:revision>12</cp:revision>
  <dc:subject/>
  <dc:title>Szkolenie PS5 Zarządzanie procesami i jakością Urząd Miasta Tarnowa 14 – 15 listopada 2017</dc:title>
</cp:coreProperties>
</file>