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D6E9-AD53-4E3E-A30E-0459B6553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28F3-D612-4BF3-9665-FAE577CE8F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FDC29-C8AE-4A72-9BCA-317F5D7484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B239C-AF72-4775-8046-37239DED87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4274B-9C8F-4DE3-BC78-4B84708823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1E658-D775-4B3F-A8E8-7CCC6410D9B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F476E-C437-4DBF-873E-FEC468A9FE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B3074-11DB-4BD3-A105-1CAE9D9C37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2A9B2-9756-477C-A5B4-2ABAA87EB6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BB227-D33C-4874-B2C7-969BC0F3929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1CBF6-E81A-41AB-95F4-3864F2CCDE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4377-0286-46E9-9F0F-8B1596FD0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ED4B-11C8-4502-B30F-AD4FE70FEC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FF0B-E204-4097-8C2F-ADB896C6C8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181C-CC56-4138-A7B9-75C9FB2C85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A6C1-0CBE-4380-934A-A83AD63279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B0DB-8BA6-4F94-8982-929144DAD1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B72F-FDB8-460C-9839-03CB4379E6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2C6E-CCD1-4DFE-8A9C-2ED0A69A0A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0C9A-1C57-41AF-81B5-B7616E915B8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4065-5A32-4576-BA77-9FE5E2FB0F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FA02-FA2F-4900-AC2C-E5DF6CB3B5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E1BB-B973-4869-81DA-56CE78706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914A-96E7-4D88-A70E-C732EE71EB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99D7-D2F5-408A-874F-607403EDF6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B089F-C92F-4640-8929-30ACA040C3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84068-32E1-4160-9C5C-2FD7DE0F66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694E7-E66A-4CF7-A3CA-EED80EAA5F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CDB6C-2A23-4DB0-AC0F-9425E598D8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684C5-D689-4F6F-ACD7-CCC392F8CB1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2EA9B-83E4-4932-BAA3-B4B99729DF2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D07C0-1CB6-4537-AA70-00F2299B46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B89FE-B3D2-42BA-94A1-95C418BFA3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4D61A-6964-4EB5-A6DF-532E377E6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6F1C4-0898-45AC-A7F1-0497D07C1B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7DFE4-AE1F-4B87-8F2E-77498A1F97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05E7AA-167A-4EA4-8665-D2C78622422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79C15-340B-459F-AF5E-81185F52516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E04B4-FC86-4F31-B0DE-1A281083B6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A40EF-1D2F-4606-85FA-EC42A9FFB6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1A226-CE5C-45DE-BF78-458115670A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61C63-1356-4165-9D83-8942300ACE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A7A07-A2E0-43CB-AB72-547579C96B4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42A94-23DF-4BBA-AC20-11E3A1FC2C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2894A-231A-45A0-BAFB-A11F6BAB71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67BC9-69C2-492E-B43C-565BFA74E2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8BFA5-18F5-4A70-847F-A1DFF5C9BEF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F436C-0D8A-42BC-8FB0-275E526636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D99D3-31DE-48F6-B5E9-2FEA7889534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75758-6297-45CF-A202-34EC61CD9C8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5E44-485E-4D9E-9BB1-9DFC665F06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DE32-46AF-4D05-9975-392746130A1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12FA-70E4-45FB-901D-9368DD25518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B1C8-4AF3-4CE3-9921-EE7D37ACB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5700-BA11-475E-8FCB-2E7DDA96C68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B52D-8632-455B-9F51-C3700EAC86A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A94A-167A-48EE-A03F-9D3B8125C80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80E3-542F-48C0-BD7C-B343D14DEC3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C096-6AC9-4990-93BF-BE0E332D2BD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83DA-3414-4D55-A0C8-07DCFD5379F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FE20-9F93-4023-95F5-C17DD30913A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C17A3F-7E6D-49A2-8452-1798FED75F2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B999A5-4D21-4E2D-9679-E371FF21A5C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8BBA90-0137-4DC1-8B9B-5C265DC1C7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25EFD-6144-4B8B-BDF9-39A7FB68936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808062-12B6-4122-9F10-F41B59FF512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B7CEB8-E0BC-408F-BE3F-A937CFFE08A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A9A67-BCCD-4326-85A9-49DF9F1D8D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598A9-D7B9-409B-B954-928EFD20F08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554EDE-6ACA-4E22-9AEB-D8BE9383695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FF5B7-DE4B-46D3-ABE4-CD716BD29CA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5DFF51-77EE-442E-860D-4922FAE7705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E2C2B-D728-49B0-948F-E3F4F9955CA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966A2-3D75-43EC-9847-EF63105960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16AB9-68F5-4936-A0F5-2E05C37DEAA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91B66-CF40-4265-A170-0E317A0A86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97F9E-7AE5-4251-B5F2-18D9C01D1D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ABC7A-1BBD-4495-A9A3-E84F7594A8E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EF669-7AEE-4C22-A12F-C704D286945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F6B74-9E15-4FBA-97A6-90E2E54EA70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64183-3912-4980-B1F5-FDF70F7ACD0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30253-841A-4170-87DB-66A530AC787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ADB1E-4BB7-4AAC-847A-77EB1BD1E2D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07297-515E-4091-A274-6B39776F1D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D4843-AFE3-461C-BC53-F78995DF847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9E33-0AC9-4424-A5AE-E0AA16867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6840-44EF-45ED-BD0B-D03888DC2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7351-9D2B-42C5-BE33-45A7BEC76A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3B74-BF98-420D-8E56-C67F2E3C03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3444-659C-4E30-90E3-3D55B1B660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03CD-2F2B-4E3E-9D32-E5484E2EA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C70B-91A0-43F4-AC8D-0E92D94617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6171-8419-4693-AFF8-94AF0D0A76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E45B-D4EF-4E4F-BA20-E5F352C15C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A163-EDE1-4526-8B20-4E07E3344E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FF59-32C8-4FDA-8DF5-2BE753A885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5076-7AB3-48B5-9B96-607D6E1542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6758-C496-46B1-BC47-4D088244BC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DAEE-4A66-4585-8688-D78BD7AA9A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7F9-F358-445E-A39C-2FB3587997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F3E-9F0F-491F-8568-A6DF6465FD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525-EC48-4153-93BE-F649CED2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1CBD-2721-46FB-8CF5-F846714936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61A-4E75-4F58-ABA2-16FB5C97EB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811-D30A-4BE9-A955-86A95360CB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C36-61A1-43B6-BDCF-CB4696DF7C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C7E-F1ED-4774-A072-9F70670BF1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FF4-8868-4CEA-8B9B-4936C351CD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05A-3CF1-4D1E-A563-AE0D022405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B5E-27D4-4017-B3D7-312CBD3DCD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9D6-73DC-41AB-9665-79F25D7425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20D-80BF-4668-B09F-D04E23F11F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156C-C64F-4045-AD0B-04A14D758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5DFD-A7FA-4DB1-B08E-6F4F1F686E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81A5B-F8BB-4402-A870-8CE8AB54BC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D61C-B8C7-41E7-A806-B18E26747B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9641-95DF-4166-8E1F-4824E1694B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193D0-6174-4A6E-ABED-6BB78DA75C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68B83-C740-4C04-A41C-7BEE730ED8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C046B-E847-45C6-80EA-61FEA3E9B8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1D2F3-79B9-4B2B-AFB6-F6FD44A8B8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2F34C-4659-45BF-BBBD-A0AADD6FF2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17C97-57C2-4A06-8617-7BBB27D8FCF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0B03-22B9-4FC4-ACFE-CADCCEA80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4BF0-EB9F-4FF0-B2F9-7420EDF7BA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54BBF-9C4D-4537-87B5-CCF1D80968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4BAB2-5ADF-4D85-8DFD-FB54EDB416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81ED0-BC47-46F9-ACB1-BCA3118190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2530-8555-4918-A984-B828DEE79C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E37A6-7766-412D-B250-9AB4D148ED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F94CF-7852-492B-BFE4-B87C0B481F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9E36-2E72-44EC-ACBF-EC72FD79DF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7CF89-F9D5-4511-BAC6-F28EFD2E82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B303-9B68-49F5-8E2E-2BBD920990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70FFB-3DD1-4B70-BCD8-BFEBD266D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CF46-6C49-4EAD-85D9-70B3C79498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25CDF-B47C-4B71-BBA3-251551E1C3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34FA-50B9-4BF6-A620-3293F9E1FD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AF7F6-015E-4897-8D15-9D83994272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BB43-1E04-4605-9754-9CD0609F19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F086-A6D3-469F-AE8C-9F89D83CC1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82B1-30E0-477A-A6FD-8CD515D0E2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0F4-805A-4426-8331-40C7FB424A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C923-9D4D-4896-B648-2910D536FE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3380-6E21-4692-8EED-83FCAEE56B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607F-9A8F-497B-989C-31EB729BD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04B3-42EF-45B2-825D-F5B8608FE71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439-11C6-4E1F-9E58-659EFE533A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6010-F771-4216-AAF5-B6C247C192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DCB0-65FD-45DB-A063-18E99B2D06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01EF-490D-42E7-96C8-5D4C8A44713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CE8B-E739-45C4-B940-0C2222DBA6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2FDF8-5180-4C25-A883-F73EF4B60B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130EE-F4FA-4982-BAB6-A68228FFDC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3C43A-0C89-4F8E-AAF9-54B7411C1C4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E9543-7F9F-4879-B5BD-29F3BBB0B17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0D96D-2FBF-4D13-8F1F-CE5523EEC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91F0-A917-4B3A-AF1D-EC5510CBE7D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A57AB-DB32-4F66-A8E0-03D4F38AE3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5CD21-5CC3-43CE-8795-37A88D373E0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01D0C-E1A4-47BC-A8AB-DB477FBF64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422DF-4B29-4A5F-831E-A57F8A22CF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A88A9-7C0A-496F-9665-B0DA746936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6C8A7-0890-46C1-BF76-6232D96807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AA794-5F8C-4007-83FE-CC6A1E987E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E6B3D-9E79-468C-8EC3-019A46A239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13F2A-C1C7-42F2-8E0C-6289C51894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6789E-CC1A-47AD-92A2-62BB4F4AD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9360" y="6381720"/>
            <a:ext cx="1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D7D8-D952-457B-8510-AAE7A2164E3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395280" y="6389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9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3FDE57C-A602-4B6F-BF53-109A055B4F1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2"/>
          <p:cNvSpPr/>
          <p:nvPr/>
        </p:nvSpPr>
        <p:spPr>
          <a:xfrm>
            <a:off x="404640" y="6389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0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889FEB8-3159-41BB-A378-8B276217C68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2"/>
          <p:cNvSpPr/>
          <p:nvPr/>
        </p:nvSpPr>
        <p:spPr>
          <a:xfrm>
            <a:off x="384120" y="635148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1DC8F2-A9EA-407E-A89B-275B52F168F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2"/>
          <p:cNvSpPr/>
          <p:nvPr/>
        </p:nvSpPr>
        <p:spPr>
          <a:xfrm>
            <a:off x="384120" y="6308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12"/>
          </p:nvPr>
        </p:nvSpPr>
        <p:spPr>
          <a:xfrm>
            <a:off x="8757720" y="6381720"/>
            <a:ext cx="15588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8B9-8575-4363-BBE9-95B208EDB65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13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64BE-70F1-4E1D-873C-3247457E281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392040" y="602136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14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91FB-59D3-4C39-8891-2EA49BAF4F7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rostokąt 8"/>
          <p:cNvSpPr/>
          <p:nvPr/>
        </p:nvSpPr>
        <p:spPr>
          <a:xfrm>
            <a:off x="8233200" y="64533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0C35-25C8-49B8-9BF8-EF71D1525E1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rostokąt z zaokrąglonym rogiem 7"/>
          <p:cNvSpPr/>
          <p:nvPr/>
        </p:nvSpPr>
        <p:spPr>
          <a:xfrm flipV="1">
            <a:off x="0" y="-720"/>
            <a:ext cx="9144000" cy="4110120"/>
          </a:xfrm>
          <a:custGeom>
            <a:avLst/>
            <a:gdLst/>
            <a:ahLst/>
            <a:rect l="l" t="t" r="r" b="b"/>
            <a:pathLst>
              <a:path w="9144000" h="4110038">
                <a:moveTo>
                  <a:pt x="0" y="0"/>
                </a:moveTo>
                <a:lnTo>
                  <a:pt x="8458980" y="0"/>
                </a:lnTo>
                <a:cubicBezTo>
                  <a:pt x="8837306" y="0"/>
                  <a:pt x="9144000" y="306694"/>
                  <a:pt x="9144000" y="685020"/>
                </a:cubicBezTo>
                <a:lnTo>
                  <a:pt x="9144000" y="4110038"/>
                </a:lnTo>
                <a:lnTo>
                  <a:pt x="0" y="411003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za 7"/>
          <p:cNvSpPr/>
          <p:nvPr/>
        </p:nvSpPr>
        <p:spPr>
          <a:xfrm rot="16200000">
            <a:off x="7125480" y="297540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rostokąt z zaokrąglonym rogiem 7"/>
          <p:cNvSpPr/>
          <p:nvPr/>
        </p:nvSpPr>
        <p:spPr>
          <a:xfrm flipV="1">
            <a:off x="0" y="-720"/>
            <a:ext cx="9144000" cy="5334120"/>
          </a:xfrm>
          <a:custGeom>
            <a:avLst/>
            <a:gdLst/>
            <a:ahLst/>
            <a:rect l="l" t="t" r="r" b="b"/>
            <a:pathLst>
              <a:path w="9144000" h="5334000">
                <a:moveTo>
                  <a:pt x="0" y="0"/>
                </a:moveTo>
                <a:lnTo>
                  <a:pt x="8254982" y="0"/>
                </a:lnTo>
                <a:cubicBezTo>
                  <a:pt x="8745973" y="0"/>
                  <a:pt x="9144000" y="398027"/>
                  <a:pt x="9144000" y="889018"/>
                </a:cubicBezTo>
                <a:lnTo>
                  <a:pt x="9144000" y="5334000"/>
                </a:lnTo>
                <a:lnTo>
                  <a:pt x="0" y="5334000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Łza 7"/>
          <p:cNvSpPr/>
          <p:nvPr/>
        </p:nvSpPr>
        <p:spPr>
          <a:xfrm rot="16200000">
            <a:off x="6963480" y="452484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rostokąt z zaokrąglonym rogiem 7"/>
          <p:cNvSpPr/>
          <p:nvPr/>
        </p:nvSpPr>
        <p:spPr>
          <a:xfrm flipV="1">
            <a:off x="0" y="0"/>
            <a:ext cx="9144000" cy="1373040"/>
          </a:xfrm>
          <a:custGeom>
            <a:avLst/>
            <a:gdLst/>
            <a:ahLst/>
            <a:rect l="l" t="t" r="r" b="b"/>
            <a:pathLst>
              <a:path w="9144000" h="1373188">
                <a:moveTo>
                  <a:pt x="0" y="0"/>
                </a:moveTo>
                <a:lnTo>
                  <a:pt x="8915131" y="0"/>
                </a:lnTo>
                <a:cubicBezTo>
                  <a:pt x="9041532" y="0"/>
                  <a:pt x="9144000" y="102468"/>
                  <a:pt x="9144000" y="228869"/>
                </a:cubicBezTo>
                <a:lnTo>
                  <a:pt x="9144000" y="1373188"/>
                </a:lnTo>
                <a:lnTo>
                  <a:pt x="0" y="137318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Łza 7"/>
          <p:cNvSpPr/>
          <p:nvPr/>
        </p:nvSpPr>
        <p:spPr>
          <a:xfrm rot="16200000">
            <a:off x="7385040" y="426960"/>
            <a:ext cx="1447920" cy="1454400"/>
          </a:xfrm>
          <a:custGeom>
            <a:avLst/>
            <a:gdLst/>
            <a:ahLst/>
            <a:rect l="l" t="t" r="r" b="b"/>
            <a:pathLst>
              <a:path w="1447800" h="1454150">
                <a:moveTo>
                  <a:pt x="0" y="727075"/>
                </a:moveTo>
                <a:cubicBezTo>
                  <a:pt x="0" y="325523"/>
                  <a:pt x="324101" y="0"/>
                  <a:pt x="723900" y="0"/>
                </a:cubicBezTo>
                <a:lnTo>
                  <a:pt x="1447800" y="0"/>
                </a:lnTo>
                <a:lnTo>
                  <a:pt x="1447800" y="727075"/>
                </a:lnTo>
                <a:cubicBezTo>
                  <a:pt x="1447800" y="1128627"/>
                  <a:pt x="1123699" y="1454150"/>
                  <a:pt x="723900" y="1454150"/>
                </a:cubicBezTo>
                <a:cubicBezTo>
                  <a:pt x="324101" y="1454150"/>
                  <a:pt x="0" y="1128627"/>
                  <a:pt x="0" y="727075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79600" y="816120"/>
            <a:ext cx="8013600" cy="47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7360" indent="-1173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za 6"/>
          <p:cNvSpPr/>
          <p:nvPr/>
        </p:nvSpPr>
        <p:spPr>
          <a:xfrm>
            <a:off x="3513240" y="0"/>
            <a:ext cx="5630760" cy="5454720"/>
          </a:xfrm>
          <a:custGeom>
            <a:avLst/>
            <a:gdLst/>
            <a:ahLst/>
            <a:rect l="l" t="t" r="r" b="b"/>
            <a:pathLst>
              <a:path w="5630862" h="5454650">
                <a:moveTo>
                  <a:pt x="0" y="2727325"/>
                </a:moveTo>
                <a:cubicBezTo>
                  <a:pt x="0" y="1221065"/>
                  <a:pt x="1260511" y="0"/>
                  <a:pt x="2815431" y="0"/>
                </a:cubicBezTo>
                <a:lnTo>
                  <a:pt x="5630862" y="0"/>
                </a:lnTo>
                <a:lnTo>
                  <a:pt x="5630862" y="2727325"/>
                </a:lnTo>
                <a:cubicBezTo>
                  <a:pt x="5630862" y="4233585"/>
                  <a:pt x="4370351" y="5454650"/>
                  <a:pt x="2815431" y="5454650"/>
                </a:cubicBezTo>
                <a:cubicBezTo>
                  <a:pt x="1260511" y="5454650"/>
                  <a:pt x="0" y="4233585"/>
                  <a:pt x="0" y="2727325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za 7"/>
          <p:cNvSpPr/>
          <p:nvPr/>
        </p:nvSpPr>
        <p:spPr>
          <a:xfrm rot="16200000">
            <a:off x="2597760" y="2219760"/>
            <a:ext cx="3114720" cy="3218040"/>
          </a:xfrm>
          <a:custGeom>
            <a:avLst/>
            <a:gdLst/>
            <a:ahLst/>
            <a:rect l="l" t="t" r="r" b="b"/>
            <a:pathLst>
              <a:path w="3114675" h="3217863">
                <a:moveTo>
                  <a:pt x="0" y="1608932"/>
                </a:moveTo>
                <a:cubicBezTo>
                  <a:pt x="0" y="720343"/>
                  <a:pt x="697244" y="0"/>
                  <a:pt x="1557338" y="0"/>
                </a:cubicBezTo>
                <a:lnTo>
                  <a:pt x="3114675" y="0"/>
                </a:lnTo>
                <a:lnTo>
                  <a:pt x="3114675" y="1608932"/>
                </a:lnTo>
                <a:cubicBezTo>
                  <a:pt x="3114675" y="2497521"/>
                  <a:pt x="2417431" y="3217864"/>
                  <a:pt x="1557337" y="3217864"/>
                </a:cubicBezTo>
                <a:cubicBezTo>
                  <a:pt x="697243" y="3217864"/>
                  <a:pt x="-1" y="2497521"/>
                  <a:pt x="-1" y="1608932"/>
                </a:cubicBezTo>
                <a:lnTo>
                  <a:pt x="0" y="1608932"/>
                </a:ln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74D2-EEE4-4C71-9207-762151D11498}" type="datetime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1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ązek Miast Polsk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47A0B4E-054A-4BBC-A2DE-CE7C3FDD128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045C4D-A98C-495E-8AA9-ABB66A44F19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FDBD014-F46F-49BF-AE8C-6796267A6E5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5B1C149-5055-43EE-B718-88DFA0937CF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6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FDFF1F6-7E9A-460B-B2C4-7444D306B89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4AFD081-A7F2-44D6-AC24-4DB89ECA6DD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8"/>
          </p:nvPr>
        </p:nvSpPr>
        <p:spPr>
          <a:xfrm>
            <a:off x="8788320" y="6381720"/>
            <a:ext cx="1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415-7CC5-42AB-9523-DA7243F51E4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Tytuł 1"/>
          <p:cNvGrpSpPr/>
          <p:nvPr/>
        </p:nvGrpSpPr>
        <p:grpSpPr>
          <a:xfrm>
            <a:off x="480960" y="311040"/>
            <a:ext cx="5797440" cy="3376800"/>
            <a:chOff x="480960" y="311040"/>
            <a:chExt cx="5797440" cy="3376800"/>
          </a:xfrm>
        </p:grpSpPr>
        <p:pic>
          <p:nvPicPr>
            <p:cNvPr id="836" name="Tytuł 1" descr=""/>
            <p:cNvPicPr/>
            <p:nvPr/>
          </p:nvPicPr>
          <p:blipFill>
            <a:blip r:embed="rId1"/>
            <a:stretch/>
          </p:blipFill>
          <p:spPr>
            <a:xfrm>
              <a:off x="480960" y="311040"/>
              <a:ext cx="57974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1280" y="439560"/>
              <a:ext cx="5538600" cy="31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6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Szkolenie PS3 / NS6</a:t>
              </a: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Stosowanie narzędzi elektronicznych</a:t>
              </a:r>
              <a:br>
                <a:rPr sz="4000"/>
              </a:b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Urząd Miasta….. </a:t>
              </a:r>
              <a:br>
                <a:rPr sz="4000"/>
              </a:b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……………….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ole tekstowe 13"/>
          <p:cNvSpPr/>
          <p:nvPr/>
        </p:nvSpPr>
        <p:spPr>
          <a:xfrm>
            <a:off x="146160" y="5807160"/>
            <a:ext cx="80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58595b"/>
                </a:solidFill>
                <a:latin typeface="Times New Roman CE"/>
                <a:ea typeface="Arial"/>
              </a:rPr>
              <a:t>Projekt: „Nowoczesne rozwiązania w obszarze podatków i opłat lokalnych  oraz zarządzania nieruchomościami dla 6 miast - członków Związku Miast Polskich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Obraz 15" descr=""/>
          <p:cNvPicPr/>
          <p:nvPr/>
        </p:nvPicPr>
        <p:blipFill>
          <a:blip r:embed="rId2"/>
          <a:stretch/>
        </p:blipFill>
        <p:spPr>
          <a:xfrm>
            <a:off x="765000" y="5200560"/>
            <a:ext cx="7016760" cy="549360"/>
          </a:xfrm>
          <a:prstGeom prst="rect">
            <a:avLst/>
          </a:prstGeom>
          <a:ln w="0">
            <a:noFill/>
          </a:ln>
        </p:spPr>
      </p:pic>
      <p:pic>
        <p:nvPicPr>
          <p:cNvPr id="840" name="Grafika 2" descr=""/>
          <p:cNvPicPr/>
          <p:nvPr/>
        </p:nvPicPr>
        <p:blipFill>
          <a:blip r:embed="rId3"/>
          <a:stretch/>
        </p:blipFill>
        <p:spPr>
          <a:xfrm>
            <a:off x="1982880" y="4429080"/>
            <a:ext cx="561960" cy="665280"/>
          </a:xfrm>
          <a:prstGeom prst="rect">
            <a:avLst/>
          </a:prstGeom>
          <a:ln w="0">
            <a:noFill/>
          </a:ln>
        </p:spPr>
      </p:pic>
      <p:pic>
        <p:nvPicPr>
          <p:cNvPr id="841" name="Grafika 5" descr=""/>
          <p:cNvPicPr/>
          <p:nvPr/>
        </p:nvPicPr>
        <p:blipFill>
          <a:blip r:embed="rId4"/>
          <a:stretch/>
        </p:blipFill>
        <p:spPr>
          <a:xfrm>
            <a:off x="2682720" y="4429080"/>
            <a:ext cx="465120" cy="558720"/>
          </a:xfrm>
          <a:prstGeom prst="rect">
            <a:avLst/>
          </a:prstGeom>
          <a:ln w="0">
            <a:noFill/>
          </a:ln>
        </p:spPr>
      </p:pic>
      <p:pic>
        <p:nvPicPr>
          <p:cNvPr id="842" name="Grafika 7" descr=""/>
          <p:cNvPicPr/>
          <p:nvPr/>
        </p:nvPicPr>
        <p:blipFill>
          <a:blip r:embed="rId5"/>
          <a:stretch/>
        </p:blipFill>
        <p:spPr>
          <a:xfrm>
            <a:off x="3365640" y="4429080"/>
            <a:ext cx="509400" cy="606600"/>
          </a:xfrm>
          <a:prstGeom prst="rect">
            <a:avLst/>
          </a:prstGeom>
          <a:ln w="0">
            <a:noFill/>
          </a:ln>
        </p:spPr>
      </p:pic>
      <p:pic>
        <p:nvPicPr>
          <p:cNvPr id="843" name="Grafika 9" descr=""/>
          <p:cNvPicPr/>
          <p:nvPr/>
        </p:nvPicPr>
        <p:blipFill>
          <a:blip r:embed="rId6"/>
          <a:stretch/>
        </p:blipFill>
        <p:spPr>
          <a:xfrm>
            <a:off x="4095720" y="4268880"/>
            <a:ext cx="473040" cy="741240"/>
          </a:xfrm>
          <a:prstGeom prst="rect">
            <a:avLst/>
          </a:prstGeom>
          <a:ln w="0">
            <a:noFill/>
          </a:ln>
        </p:spPr>
      </p:pic>
      <p:pic>
        <p:nvPicPr>
          <p:cNvPr id="844" name="Grafika 11" descr=""/>
          <p:cNvPicPr/>
          <p:nvPr/>
        </p:nvPicPr>
        <p:blipFill>
          <a:blip r:embed="rId7"/>
          <a:stretch/>
        </p:blipFill>
        <p:spPr>
          <a:xfrm>
            <a:off x="4811760" y="4448160"/>
            <a:ext cx="473040" cy="549360"/>
          </a:xfrm>
          <a:prstGeom prst="rect">
            <a:avLst/>
          </a:prstGeom>
          <a:ln w="0">
            <a:noFill/>
          </a:ln>
        </p:spPr>
      </p:pic>
      <p:pic>
        <p:nvPicPr>
          <p:cNvPr id="845" name="Grafika 14" descr=""/>
          <p:cNvPicPr/>
          <p:nvPr/>
        </p:nvPicPr>
        <p:blipFill>
          <a:blip r:embed="rId8"/>
          <a:stretch/>
        </p:blipFill>
        <p:spPr>
          <a:xfrm>
            <a:off x="5514840" y="4448160"/>
            <a:ext cx="4827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08:34:56Z</dcterms:created>
  <dc:creator>User</dc:creator>
  <dc:description/>
  <dc:language>en-US</dc:language>
  <cp:lastModifiedBy>Sylwia</cp:lastModifiedBy>
  <cp:lastPrinted>2019-02-21T10:31:22Z</cp:lastPrinted>
  <dcterms:modified xsi:type="dcterms:W3CDTF">2019-05-21T10:34:01Z</dcterms:modified>
  <cp:revision>12</cp:revision>
  <dc:subject/>
  <dc:title>Szkolenie PS5 Zarządzanie procesami i jakością Urząd Miasta Tarnowa 14 – 15 listopada 2017</dc:title>
</cp:coreProperties>
</file>