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5BC7-9F0F-4E5D-922B-FA174F315F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D111-5947-40E1-9F39-745742EE828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21EDA3-833A-4F43-9783-05EC69AFDFB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E22DD-6D1A-4847-A9B7-34D68877FB5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54F07-7DCA-4441-AEE4-2033FE0AA25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C07A3-949D-49DD-8D3A-05AD542FC82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C1D5D-D1A2-4F32-A6BF-C7BB4BDACC1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9F8BC-1B53-46B5-80E8-D164364E79D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B80D6-EA46-489D-BCC4-38A7C01FC50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CB231-D422-4AF3-88F6-4480111DD70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3E2A7-EB10-4CAC-8E27-68D65AB87BF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39214-0A82-4BE8-A34B-B923B4915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4554-F973-4754-80EB-B8E9B17CB4E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6466B-3885-4877-8B5B-23580DA9EFE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91FFD-2562-444F-AE7D-7803F18C34D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1E7F9-461C-4F3A-8796-8B80EB5E716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90F53-102F-45ED-9DA6-6987EC894DF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E8B9-7A6C-4B8F-A45C-BE1DA5463E4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10FE9-4559-4E54-B0B3-387728D2CAA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46620-2ECA-4A62-8B60-28ED6674BDB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AF9CC-589F-4EDA-A71F-E0D75C104BE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2411D-FEDB-4D79-8AEC-FF0F88F8456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CAFC0-E34F-45CE-BC1C-E8749B177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DB24-679A-4481-9D08-6F5FBED4775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A516E-6CCC-4D66-AF81-C1D3CA12F18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17DCC3-41E9-46CB-A59B-E81377FAA01F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D82E07-5C14-4033-BD9C-410295BB4B8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EC2920-C16B-46E8-9A4D-1FE04B1D61C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79D3AF-B35F-4609-81E4-9431AA9DFEF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3E12E2-7FCF-48B6-80E3-3ED49F747DA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2F398B-5784-4DE0-9CF1-D08A641DC80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58D7BB-6A97-4190-A11C-4A27F4B8663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5E3542-176A-4866-B469-7438971277B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13277C-EBC3-45EA-B5C2-DD893E980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51CCA2-0A8B-4F04-A68C-262B94E9E37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699371-A6FC-459A-8D90-52D70FC92D0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EA6221-4991-47C1-BB30-EF8C878EC19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CA31F1-4DD3-4F9D-ABE9-EA1076BD5BF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564C88-A9F0-4C76-B9EC-710CE02772F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1DADAB-52A1-495B-B95A-BF2BAB3C151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85ABE3-6F58-44EB-8AFE-357BB6C4348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E2E5B2-8756-406B-A279-0FBC470A65A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8C23AD-535D-4DDC-85CE-8C3A137BCE5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553D8F-E4B9-4B8E-8E20-A42559E481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4828A4-7890-43ED-99A5-4FB5A4209E2B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5E9BB-B288-4DCF-8D85-DCF773F088E9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35F809-46D3-47D2-AAFB-7FE9F561848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75D160-3802-49C0-967D-5942C71D6F5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269757-1A7A-416B-9854-AF80DF9FFF0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1A69E-9EA6-46A3-9975-3C3830B0B92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E494B-5884-42F0-9B14-8ECE7AA7DE5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D2BF6-E0AB-4039-99F0-F51C3CEFB69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58EB8-9BE0-4697-871F-6A1D92F52D4F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71F4F-7A3C-429B-8B8A-E5BF7C1C82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17BAF-9309-42D9-ABAF-16FCAC871B3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86D85-A76E-4C88-8D39-E3542A6727F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F6AAD-9E4A-479F-AE64-1C85795F675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8F51C-37B4-48F1-B3CF-32794EC46F8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13750-3576-4D62-89F3-AF98254B850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17477-F5FB-4C0E-B4EE-3A3664845ED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F9499-4E7F-4CA5-A8F4-18F96EBB9AF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0EA377-73D2-412A-989C-EA71F14E1F1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2F6B0D-6612-4AF4-8831-EA6EB7C77E56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5E7AD7D-63F5-4829-AEA6-48E0EB6F17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E5A531-AB21-4CCB-B460-5FBAB95F3D72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040829-A9FD-48B2-BB21-A3D6E163F58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5CAE91-0FC2-4AFF-A067-48D56E8A2E81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6455BF-6E22-4A37-9B57-1CEB38FFD93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E6C164-1C6F-46B7-9C41-D0C84D2569A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B28F6D-8F78-4A0B-B845-4800F8F31AE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D9A126-DED6-45DE-9C08-C7E21DE95B5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843614-C2A4-46D4-8793-5175B3842FE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C152D8-D877-4E4D-BD46-B6D32336A23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BA190-65AB-4CF6-A96D-BB18AF0D47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C31D9D-33F6-48E0-9B4B-66BCCE87BAB8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33C9B7-C742-478D-8AD8-13587AAB034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43B303-0CE2-45EC-A419-5D5D01B160D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F26F7F-FE66-4C8C-928D-CAE0E27D0B8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E1BD6F-066A-47B2-B8DD-7B9D7BCD1BB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F27661-8723-43B2-A2C6-B566DFE1CCD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6177D4-0412-4853-90FA-8E60B072AA3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187771-DB8E-487D-BB94-45AAC345934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1D459E-94C1-4F5B-9517-FB493DFFC13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64CC3-CF8C-467F-9A81-C3C0E52C7F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92B0EA-9147-488B-9A55-F3AF272605D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27240-0DD9-4C27-BA8C-B91DA374C8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4F830-AE80-41DE-A235-EDC7F5E793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2CC18-C22E-42C7-9AA4-611B4A7FD92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B8D1-52CF-4F91-9B31-7D34B6022A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F32B5-E5AF-457A-BFA2-4DFCFA02B9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F05B-571A-492C-B0FE-33416D97B1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4766-0F5B-4F0F-908F-7F289B2219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F62C3-DDF8-4716-925C-F598AB71029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F738-8926-4D93-B1D9-BE247E8B78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AB1BC-7634-4B1A-B437-7E6F54C872B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41D93-530D-4122-A87B-EB113CC9926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4470F-BBE3-4919-87DA-8E0C9A992D3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E6356-8678-46E4-823C-7B2DD42E48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7BE8-AE88-49E9-8A35-25EFBA44362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C320-2AF5-4CE6-89C1-E3402CC9372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6B8-091B-4E62-903E-006FE31DC6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483D-E017-4D6C-8525-027BA72A6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A1C4-C933-4E27-92EF-B733029266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75BD-33E5-46EB-ADF3-EFE86A02FC6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7E5-2680-405D-8C58-CC4E84F98B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72A-F2EF-4539-8AEC-27EA256D33E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E3E4-A76C-4304-9588-0A510305BEA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F04A-E731-4FC2-981C-A5B2AE1B5C2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104-BF6F-4D13-A472-B841058FA0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C5F-827D-45C9-B782-A59CF712A1D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018-2334-4EF7-B8A3-D797D99F0A1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F1B-5746-48DF-A335-83CD5E3E1FD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01327-3B6E-4538-A86E-228EB05FCC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07A3-A512-4A2D-B461-F6679266059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4C47A-AB9A-4E27-A77D-C9C26B8000EF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D1033-6F19-4900-9201-418BE86CD6F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C161F-4C45-446C-B2D8-87201C4A801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1E773-5E4D-441D-90BD-85071E10E1D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D4820F-60C1-41D8-ABA4-F56487ABE61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7880F-EB4F-42B0-A517-C221D2C216B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29C16-65F2-48DF-809A-369C37722D2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FDAB0-8984-4CD8-87D5-67B71547B24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7F130-ED64-4490-8D4D-07398C43F5C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80B7D-B7FC-4B77-A0C1-B1721145B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76272-D532-4A5C-97D0-62D64C545C5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D5B75-B420-463B-B08E-68986619D96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88BAC-D613-4570-99D4-119CCFD03C3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F1582-D387-4F8A-82C9-E60F71C7274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4B88D4-8DA4-4A76-8F74-531FDDEA9C1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A1DFA5-58F2-4530-AF51-E3E660EDEC1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04723-36CC-4F67-BF04-D07F91B2C3D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14DF5-4F07-4346-A894-6C1CF7B31AD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F22C46-7225-4A96-8221-8E7B45B97A8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E38DF-EF42-4894-A9BC-E79ADBE8610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52B2B-D15F-4BE8-889B-4F1D57A440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6491E-CC58-46DE-A791-AA80714C251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3D274-8E20-4793-AA8C-1E8A9AD1053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2E691-34D8-4BB2-9966-F4B15338E34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89C611-4E1C-4FA7-A729-1EB8EF8DE60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796B-7D53-4875-A9B9-2C8152CF1FD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D2F4-12E5-446C-8C5B-FF6397FD464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4158A-93DD-4EE3-AE8A-E62886DF052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391B-84C1-40E2-8A96-1B9DF357D4B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30B6-30CC-42DD-9C59-D16FB36F110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6BA8-B432-45E2-9588-E5E8585643F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FBE14-036B-41DF-BE58-AFE43C232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56A4C-3BDB-4203-B190-B730651BEB0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5D06-8844-426D-BB8E-3C7EA826FC5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3C30-8643-47EC-8380-CE670C6EACB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8316-2168-40CF-BC63-8EEE80E1FD2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98F1-53C0-4DB3-86EC-E839A6CC1E7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AAC1-975F-41E6-8AAB-79FDA971E5F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76BD4B-C886-4313-BDFA-14A7435D2E2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E86A7F-9113-43E0-B3EF-A114CF3C5F0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B12405-703D-4C52-A0EE-BF8B7E1B183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756B32-6C1C-4EE1-BECC-7B99E8F892F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CBEA16-B80E-4987-BAD2-7BA73BA38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51453-D5D1-47FD-91DB-E7D2EA938CE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96360" y="482040"/>
            <a:ext cx="8363160" cy="13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6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FE76F5-2135-4CB6-BA6D-4C367E73EF6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719726-2448-4EAD-85E7-97F113A3934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765E95-6045-4295-B1C8-B6AEF3C8207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19DA90-E6F7-4093-97C3-79F04FD5404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84120" y="3832200"/>
            <a:ext cx="8375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5AE6D1-607E-4C8F-B5A2-9D5BBB99FA3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6040" y="112392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8412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6040" y="3832200"/>
            <a:ext cx="408708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0D5E9E-E25E-4A09-815A-FC570E6C437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1624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48000" y="112392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8412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1624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48000" y="3832200"/>
            <a:ext cx="269676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E77AC0-946D-4C89-B7C8-38BEEBAC283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F0B4EF-A62C-48D6-A72E-E6A38748114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BEC29D-D5E3-4C88-B97C-0DF241ADC9E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6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22CBD8-A2B5-46CB-A593-2581CD4802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9360" y="6381720"/>
            <a:ext cx="193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9CB9-A968-4E6B-9BFC-E2AF54EE7768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2"/>
          <p:cNvSpPr/>
          <p:nvPr/>
        </p:nvSpPr>
        <p:spPr>
          <a:xfrm>
            <a:off x="395280" y="6389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sldNum" idx="9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121B6B0-A64A-4F04-A0D6-3C2E5ACC613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42"/>
          <p:cNvSpPr/>
          <p:nvPr/>
        </p:nvSpPr>
        <p:spPr>
          <a:xfrm>
            <a:off x="404640" y="638964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10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FEBD20C-5044-4840-9F7A-FD04E3E5DB0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42"/>
          <p:cNvSpPr/>
          <p:nvPr/>
        </p:nvSpPr>
        <p:spPr>
          <a:xfrm>
            <a:off x="384120" y="635148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sldNum" idx="11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BBCFBEB-0864-435B-AD37-A579DF42E146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42"/>
          <p:cNvSpPr/>
          <p:nvPr/>
        </p:nvSpPr>
        <p:spPr>
          <a:xfrm>
            <a:off x="384120" y="630864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Num" idx="12"/>
          </p:nvPr>
        </p:nvSpPr>
        <p:spPr>
          <a:xfrm>
            <a:off x="8757720" y="6381720"/>
            <a:ext cx="15588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AC77-0D88-41FD-B12D-810404677192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Num" idx="13"/>
          </p:nvPr>
        </p:nvSpPr>
        <p:spPr>
          <a:xfrm>
            <a:off x="8639280" y="656280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6AD74-8856-4D40-9BFC-7711C5449590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392040" y="602136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sldNum" idx="14"/>
          </p:nvPr>
        </p:nvSpPr>
        <p:spPr>
          <a:xfrm>
            <a:off x="8639280" y="6562800"/>
            <a:ext cx="155520" cy="1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AA4E-4104-4EB8-99A0-BB00B37B6856}" type="slidenum"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rostokąt 8"/>
          <p:cNvSpPr/>
          <p:nvPr/>
        </p:nvSpPr>
        <p:spPr>
          <a:xfrm>
            <a:off x="8233200" y="6453360"/>
            <a:ext cx="75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D203-A95A-488F-8233-036DE5B3BCAC}" type="slidenum">
              <a:rPr b="0" lang="pl-P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rostokąt z zaokrąglonym rogiem 7"/>
          <p:cNvSpPr/>
          <p:nvPr/>
        </p:nvSpPr>
        <p:spPr>
          <a:xfrm flipV="1">
            <a:off x="0" y="-720"/>
            <a:ext cx="9144000" cy="4110120"/>
          </a:xfrm>
          <a:custGeom>
            <a:avLst/>
            <a:gdLst/>
            <a:ahLst/>
            <a:rect l="l" t="t" r="r" b="b"/>
            <a:pathLst>
              <a:path w="9144000" h="4110038">
                <a:moveTo>
                  <a:pt x="0" y="0"/>
                </a:moveTo>
                <a:lnTo>
                  <a:pt x="8458980" y="0"/>
                </a:lnTo>
                <a:cubicBezTo>
                  <a:pt x="8837306" y="0"/>
                  <a:pt x="9144000" y="306694"/>
                  <a:pt x="9144000" y="685020"/>
                </a:cubicBezTo>
                <a:lnTo>
                  <a:pt x="9144000" y="4110038"/>
                </a:lnTo>
                <a:lnTo>
                  <a:pt x="0" y="4110038"/>
                </a:lnTo>
                <a:lnTo>
                  <a:pt x="0" y="0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Łza 7"/>
          <p:cNvSpPr/>
          <p:nvPr/>
        </p:nvSpPr>
        <p:spPr>
          <a:xfrm rot="16200000">
            <a:off x="7125480" y="2975400"/>
            <a:ext cx="1638360" cy="1617480"/>
          </a:xfrm>
          <a:custGeom>
            <a:avLst/>
            <a:gdLst/>
            <a:ahLst/>
            <a:rect l="l" t="t" r="r" b="b"/>
            <a:pathLst>
              <a:path w="1638300" h="1617662">
                <a:moveTo>
                  <a:pt x="0" y="808831"/>
                </a:moveTo>
                <a:cubicBezTo>
                  <a:pt x="0" y="362126"/>
                  <a:pt x="366746" y="0"/>
                  <a:pt x="819150" y="0"/>
                </a:cubicBezTo>
                <a:lnTo>
                  <a:pt x="1638300" y="0"/>
                </a:lnTo>
                <a:lnTo>
                  <a:pt x="1638300" y="808831"/>
                </a:lnTo>
                <a:cubicBezTo>
                  <a:pt x="1638300" y="1255536"/>
                  <a:pt x="1271554" y="1617662"/>
                  <a:pt x="819150" y="1617662"/>
                </a:cubicBezTo>
                <a:cubicBezTo>
                  <a:pt x="366746" y="1617662"/>
                  <a:pt x="0" y="1255536"/>
                  <a:pt x="0" y="808831"/>
                </a:cubicBez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rostokąt z zaokrąglonym rogiem 7"/>
          <p:cNvSpPr/>
          <p:nvPr/>
        </p:nvSpPr>
        <p:spPr>
          <a:xfrm flipV="1">
            <a:off x="0" y="-720"/>
            <a:ext cx="9144000" cy="5334120"/>
          </a:xfrm>
          <a:custGeom>
            <a:avLst/>
            <a:gdLst/>
            <a:ahLst/>
            <a:rect l="l" t="t" r="r" b="b"/>
            <a:pathLst>
              <a:path w="9144000" h="5334000">
                <a:moveTo>
                  <a:pt x="0" y="0"/>
                </a:moveTo>
                <a:lnTo>
                  <a:pt x="8254982" y="0"/>
                </a:lnTo>
                <a:cubicBezTo>
                  <a:pt x="8745973" y="0"/>
                  <a:pt x="9144000" y="398027"/>
                  <a:pt x="9144000" y="889018"/>
                </a:cubicBezTo>
                <a:lnTo>
                  <a:pt x="9144000" y="5334000"/>
                </a:lnTo>
                <a:lnTo>
                  <a:pt x="0" y="5334000"/>
                </a:lnTo>
                <a:lnTo>
                  <a:pt x="0" y="0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Łza 7"/>
          <p:cNvSpPr/>
          <p:nvPr/>
        </p:nvSpPr>
        <p:spPr>
          <a:xfrm rot="16200000">
            <a:off x="6963480" y="4524840"/>
            <a:ext cx="1638360" cy="1617480"/>
          </a:xfrm>
          <a:custGeom>
            <a:avLst/>
            <a:gdLst/>
            <a:ahLst/>
            <a:rect l="l" t="t" r="r" b="b"/>
            <a:pathLst>
              <a:path w="1638300" h="1617662">
                <a:moveTo>
                  <a:pt x="0" y="808831"/>
                </a:moveTo>
                <a:cubicBezTo>
                  <a:pt x="0" y="362126"/>
                  <a:pt x="366746" y="0"/>
                  <a:pt x="819150" y="0"/>
                </a:cubicBezTo>
                <a:lnTo>
                  <a:pt x="1638300" y="0"/>
                </a:lnTo>
                <a:lnTo>
                  <a:pt x="1638300" y="808831"/>
                </a:lnTo>
                <a:cubicBezTo>
                  <a:pt x="1638300" y="1255536"/>
                  <a:pt x="1271554" y="1617662"/>
                  <a:pt x="819150" y="1617662"/>
                </a:cubicBezTo>
                <a:cubicBezTo>
                  <a:pt x="366746" y="1617662"/>
                  <a:pt x="0" y="1255536"/>
                  <a:pt x="0" y="808831"/>
                </a:cubicBez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rostokąt z zaokrąglonym rogiem 7"/>
          <p:cNvSpPr/>
          <p:nvPr/>
        </p:nvSpPr>
        <p:spPr>
          <a:xfrm flipV="1">
            <a:off x="0" y="0"/>
            <a:ext cx="9144000" cy="1373040"/>
          </a:xfrm>
          <a:custGeom>
            <a:avLst/>
            <a:gdLst/>
            <a:ahLst/>
            <a:rect l="l" t="t" r="r" b="b"/>
            <a:pathLst>
              <a:path w="9144000" h="1373188">
                <a:moveTo>
                  <a:pt x="0" y="0"/>
                </a:moveTo>
                <a:lnTo>
                  <a:pt x="8915131" y="0"/>
                </a:lnTo>
                <a:cubicBezTo>
                  <a:pt x="9041532" y="0"/>
                  <a:pt x="9144000" y="102468"/>
                  <a:pt x="9144000" y="228869"/>
                </a:cubicBezTo>
                <a:lnTo>
                  <a:pt x="9144000" y="1373188"/>
                </a:lnTo>
                <a:lnTo>
                  <a:pt x="0" y="1373188"/>
                </a:lnTo>
                <a:lnTo>
                  <a:pt x="0" y="0"/>
                </a:ln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Łza 7"/>
          <p:cNvSpPr/>
          <p:nvPr/>
        </p:nvSpPr>
        <p:spPr>
          <a:xfrm rot="16200000">
            <a:off x="7385040" y="426960"/>
            <a:ext cx="1447920" cy="1454400"/>
          </a:xfrm>
          <a:custGeom>
            <a:avLst/>
            <a:gdLst/>
            <a:ahLst/>
            <a:rect l="l" t="t" r="r" b="b"/>
            <a:pathLst>
              <a:path w="1447800" h="1454150">
                <a:moveTo>
                  <a:pt x="0" y="727075"/>
                </a:moveTo>
                <a:cubicBezTo>
                  <a:pt x="0" y="325523"/>
                  <a:pt x="324101" y="0"/>
                  <a:pt x="723900" y="0"/>
                </a:cubicBezTo>
                <a:lnTo>
                  <a:pt x="1447800" y="0"/>
                </a:lnTo>
                <a:lnTo>
                  <a:pt x="1447800" y="727075"/>
                </a:lnTo>
                <a:cubicBezTo>
                  <a:pt x="1447800" y="1128627"/>
                  <a:pt x="1123699" y="1454150"/>
                  <a:pt x="723900" y="1454150"/>
                </a:cubicBezTo>
                <a:cubicBezTo>
                  <a:pt x="324101" y="1454150"/>
                  <a:pt x="0" y="1128627"/>
                  <a:pt x="0" y="727075"/>
                </a:cubicBez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"/>
          <p:cNvSpPr/>
          <p:nvPr/>
        </p:nvSpPr>
        <p:spPr>
          <a:xfrm>
            <a:off x="579600" y="816120"/>
            <a:ext cx="8013600" cy="479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marL="117360" indent="-117360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Łza 6"/>
          <p:cNvSpPr/>
          <p:nvPr/>
        </p:nvSpPr>
        <p:spPr>
          <a:xfrm>
            <a:off x="3513240" y="0"/>
            <a:ext cx="5630760" cy="5454720"/>
          </a:xfrm>
          <a:custGeom>
            <a:avLst/>
            <a:gdLst/>
            <a:ahLst/>
            <a:rect l="l" t="t" r="r" b="b"/>
            <a:pathLst>
              <a:path w="5630862" h="5454650">
                <a:moveTo>
                  <a:pt x="0" y="2727325"/>
                </a:moveTo>
                <a:cubicBezTo>
                  <a:pt x="0" y="1221065"/>
                  <a:pt x="1260511" y="0"/>
                  <a:pt x="2815431" y="0"/>
                </a:cubicBezTo>
                <a:lnTo>
                  <a:pt x="5630862" y="0"/>
                </a:lnTo>
                <a:lnTo>
                  <a:pt x="5630862" y="2727325"/>
                </a:lnTo>
                <a:cubicBezTo>
                  <a:pt x="5630862" y="4233585"/>
                  <a:pt x="4370351" y="5454650"/>
                  <a:pt x="2815431" y="5454650"/>
                </a:cubicBezTo>
                <a:cubicBezTo>
                  <a:pt x="1260511" y="5454650"/>
                  <a:pt x="0" y="4233585"/>
                  <a:pt x="0" y="2727325"/>
                </a:cubicBezTo>
                <a:close/>
              </a:path>
            </a:pathLst>
          </a:custGeom>
          <a:solidFill>
            <a:srgbClr val="5859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Łza 7"/>
          <p:cNvSpPr/>
          <p:nvPr/>
        </p:nvSpPr>
        <p:spPr>
          <a:xfrm rot="16200000">
            <a:off x="2597760" y="2219760"/>
            <a:ext cx="3114720" cy="3218040"/>
          </a:xfrm>
          <a:custGeom>
            <a:avLst/>
            <a:gdLst/>
            <a:ahLst/>
            <a:rect l="l" t="t" r="r" b="b"/>
            <a:pathLst>
              <a:path w="3114675" h="3217863">
                <a:moveTo>
                  <a:pt x="0" y="1608932"/>
                </a:moveTo>
                <a:cubicBezTo>
                  <a:pt x="0" y="720343"/>
                  <a:pt x="697244" y="0"/>
                  <a:pt x="1557338" y="0"/>
                </a:cubicBezTo>
                <a:lnTo>
                  <a:pt x="3114675" y="0"/>
                </a:lnTo>
                <a:lnTo>
                  <a:pt x="3114675" y="1608932"/>
                </a:lnTo>
                <a:cubicBezTo>
                  <a:pt x="3114675" y="2497521"/>
                  <a:pt x="2417431" y="3217864"/>
                  <a:pt x="1557337" y="3217864"/>
                </a:cubicBezTo>
                <a:cubicBezTo>
                  <a:pt x="697243" y="3217864"/>
                  <a:pt x="-1" y="2497521"/>
                  <a:pt x="-1" y="1608932"/>
                </a:cubicBezTo>
                <a:lnTo>
                  <a:pt x="0" y="1608932"/>
                </a:lnTo>
                <a:close/>
              </a:path>
            </a:pathLst>
          </a:custGeom>
          <a:solidFill>
            <a:srgbClr val="f68b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15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0B5E-D00E-40B9-A84C-124098E61D87}" type="datetime"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1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Związek Miast Polsk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2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AA2D9B9-81F4-4B9D-AAC7-C81DEEC8B30A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3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2506504-3393-438C-A447-47E4F7FBC67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4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D9FCFB7-3C44-4662-B6FC-907715D05DA3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5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1160C72-623A-4832-9FA9-D6AF4D59EF01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6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3ED5FDA-087E-4B0A-8C41-6B64C971A8A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7"/>
          </p:nvPr>
        </p:nvSpPr>
        <p:spPr>
          <a:xfrm>
            <a:off x="8721360" y="6381720"/>
            <a:ext cx="228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C282BB5-2362-43E9-B635-45A75B87050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Line 42"/>
          <p:cNvSpPr/>
          <p:nvPr/>
        </p:nvSpPr>
        <p:spPr>
          <a:xfrm>
            <a:off x="392040" y="806400"/>
            <a:ext cx="83552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2"/>
          <p:cNvSpPr/>
          <p:nvPr/>
        </p:nvSpPr>
        <p:spPr>
          <a:xfrm>
            <a:off x="395280" y="6308640"/>
            <a:ext cx="835488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6360" y="482040"/>
            <a:ext cx="8363160" cy="2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84120" y="1123920"/>
            <a:ext cx="837576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17640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58760" indent="-1792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7600" indent="-1936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3400" indent="-235080">
              <a:lnSpc>
                <a:spcPct val="106000"/>
              </a:lnSpc>
              <a:spcBef>
                <a:spcPts val="1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sldNum" idx="8"/>
          </p:nvPr>
        </p:nvSpPr>
        <p:spPr>
          <a:xfrm>
            <a:off x="8788320" y="6381720"/>
            <a:ext cx="192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947C-EDAB-4F59-B69E-EB315D36A68B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5" name="Tytuł 1"/>
          <p:cNvGrpSpPr/>
          <p:nvPr/>
        </p:nvGrpSpPr>
        <p:grpSpPr>
          <a:xfrm>
            <a:off x="480960" y="311040"/>
            <a:ext cx="5797440" cy="3376800"/>
            <a:chOff x="480960" y="311040"/>
            <a:chExt cx="5797440" cy="3376800"/>
          </a:xfrm>
        </p:grpSpPr>
        <p:pic>
          <p:nvPicPr>
            <p:cNvPr id="836" name="Tytuł 1" descr=""/>
            <p:cNvPicPr/>
            <p:nvPr/>
          </p:nvPicPr>
          <p:blipFill>
            <a:blip r:embed="rId1"/>
            <a:stretch/>
          </p:blipFill>
          <p:spPr>
            <a:xfrm>
              <a:off x="480960" y="311040"/>
              <a:ext cx="5797440" cy="33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>
              <a:off x="611280" y="439560"/>
              <a:ext cx="5538600" cy="311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Autofit/>
            </a:bodyPr>
            <a:p>
              <a:pPr>
                <a:lnSpc>
                  <a:spcPct val="106000"/>
                </a:lnSpc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pl-PL" sz="2000" spc="-1" strike="noStrike">
                  <a:solidFill>
                    <a:srgbClr val="ffffff"/>
                  </a:solidFill>
                  <a:latin typeface="Arial"/>
                </a:rPr>
                <a:t>Szkolenie PS3 / NS6</a:t>
              </a:r>
              <a:br>
                <a:rPr sz="4000"/>
              </a:br>
              <a:r>
                <a:rPr b="1" lang="pl-PL" sz="4000" spc="-1" strike="noStrike">
                  <a:solidFill>
                    <a:srgbClr val="ffffff"/>
                  </a:solidFill>
                  <a:latin typeface="Arial"/>
                </a:rPr>
                <a:t>Stosowanie narzędzi elektronicznych</a:t>
              </a:r>
              <a:br>
                <a:rPr sz="4000"/>
              </a:br>
              <a:br>
                <a:rPr sz="4000"/>
              </a:br>
              <a:r>
                <a:rPr b="1" lang="pl-PL" sz="4000" spc="-1" strike="noStrike">
                  <a:solidFill>
                    <a:srgbClr val="ffffff"/>
                  </a:solidFill>
                  <a:latin typeface="Arial"/>
                </a:rPr>
                <a:t>Urząd Miasta….. </a:t>
              </a:r>
              <a:br>
                <a:rPr sz="4000"/>
              </a:br>
              <a:r>
                <a:rPr b="0" lang="pl-PL" sz="3200" spc="-1" strike="noStrike">
                  <a:solidFill>
                    <a:srgbClr val="ffffff"/>
                  </a:solidFill>
                  <a:latin typeface="Arial"/>
                </a:rPr>
                <a:t>……………….201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pole tekstowe 13"/>
          <p:cNvSpPr/>
          <p:nvPr/>
        </p:nvSpPr>
        <p:spPr>
          <a:xfrm>
            <a:off x="146160" y="5807160"/>
            <a:ext cx="80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800" spc="-1" strike="noStrike">
                <a:solidFill>
                  <a:srgbClr val="58595b"/>
                </a:solidFill>
                <a:latin typeface="Times New Roman CE"/>
                <a:ea typeface="Arial"/>
              </a:rPr>
              <a:t>Projekt: „Nowoczesne rozwiązania w obszarze podatków i opłat lokalnych  oraz zarządzania nieruchomościami dla 6 miast - członków Związku Miast Polskich"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Obraz 15" descr=""/>
          <p:cNvPicPr/>
          <p:nvPr/>
        </p:nvPicPr>
        <p:blipFill>
          <a:blip r:embed="rId2"/>
          <a:stretch/>
        </p:blipFill>
        <p:spPr>
          <a:xfrm>
            <a:off x="765000" y="5200560"/>
            <a:ext cx="7016760" cy="549360"/>
          </a:xfrm>
          <a:prstGeom prst="rect">
            <a:avLst/>
          </a:prstGeom>
          <a:ln w="0">
            <a:noFill/>
          </a:ln>
        </p:spPr>
      </p:pic>
      <p:pic>
        <p:nvPicPr>
          <p:cNvPr id="840" name="Grafika 2" descr=""/>
          <p:cNvPicPr/>
          <p:nvPr/>
        </p:nvPicPr>
        <p:blipFill>
          <a:blip r:embed="rId3"/>
          <a:stretch/>
        </p:blipFill>
        <p:spPr>
          <a:xfrm>
            <a:off x="1982880" y="4429080"/>
            <a:ext cx="561960" cy="665280"/>
          </a:xfrm>
          <a:prstGeom prst="rect">
            <a:avLst/>
          </a:prstGeom>
          <a:ln w="0">
            <a:noFill/>
          </a:ln>
        </p:spPr>
      </p:pic>
      <p:pic>
        <p:nvPicPr>
          <p:cNvPr id="841" name="Grafika 5" descr=""/>
          <p:cNvPicPr/>
          <p:nvPr/>
        </p:nvPicPr>
        <p:blipFill>
          <a:blip r:embed="rId4"/>
          <a:stretch/>
        </p:blipFill>
        <p:spPr>
          <a:xfrm>
            <a:off x="2682720" y="4429080"/>
            <a:ext cx="465120" cy="558720"/>
          </a:xfrm>
          <a:prstGeom prst="rect">
            <a:avLst/>
          </a:prstGeom>
          <a:ln w="0">
            <a:noFill/>
          </a:ln>
        </p:spPr>
      </p:pic>
      <p:pic>
        <p:nvPicPr>
          <p:cNvPr id="842" name="Grafika 7" descr=""/>
          <p:cNvPicPr/>
          <p:nvPr/>
        </p:nvPicPr>
        <p:blipFill>
          <a:blip r:embed="rId5"/>
          <a:stretch/>
        </p:blipFill>
        <p:spPr>
          <a:xfrm>
            <a:off x="3365640" y="4429080"/>
            <a:ext cx="509400" cy="606600"/>
          </a:xfrm>
          <a:prstGeom prst="rect">
            <a:avLst/>
          </a:prstGeom>
          <a:ln w="0">
            <a:noFill/>
          </a:ln>
        </p:spPr>
      </p:pic>
      <p:pic>
        <p:nvPicPr>
          <p:cNvPr id="843" name="Grafika 9" descr=""/>
          <p:cNvPicPr/>
          <p:nvPr/>
        </p:nvPicPr>
        <p:blipFill>
          <a:blip r:embed="rId6"/>
          <a:stretch/>
        </p:blipFill>
        <p:spPr>
          <a:xfrm>
            <a:off x="4095720" y="4268880"/>
            <a:ext cx="473040" cy="741240"/>
          </a:xfrm>
          <a:prstGeom prst="rect">
            <a:avLst/>
          </a:prstGeom>
          <a:ln w="0">
            <a:noFill/>
          </a:ln>
        </p:spPr>
      </p:pic>
      <p:pic>
        <p:nvPicPr>
          <p:cNvPr id="844" name="Grafika 11" descr=""/>
          <p:cNvPicPr/>
          <p:nvPr/>
        </p:nvPicPr>
        <p:blipFill>
          <a:blip r:embed="rId7"/>
          <a:stretch/>
        </p:blipFill>
        <p:spPr>
          <a:xfrm>
            <a:off x="4811760" y="4448160"/>
            <a:ext cx="473040" cy="549360"/>
          </a:xfrm>
          <a:prstGeom prst="rect">
            <a:avLst/>
          </a:prstGeom>
          <a:ln w="0">
            <a:noFill/>
          </a:ln>
        </p:spPr>
      </p:pic>
      <p:pic>
        <p:nvPicPr>
          <p:cNvPr id="845" name="Grafika 14" descr=""/>
          <p:cNvPicPr/>
          <p:nvPr/>
        </p:nvPicPr>
        <p:blipFill>
          <a:blip r:embed="rId8"/>
          <a:stretch/>
        </p:blipFill>
        <p:spPr>
          <a:xfrm>
            <a:off x="5514840" y="4448160"/>
            <a:ext cx="482760" cy="5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20480" y="942480"/>
            <a:ext cx="7886520" cy="23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20480" y="942480"/>
            <a:ext cx="7886520" cy="23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6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l-PL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3T08:34:56Z</dcterms:created>
  <dc:creator>User</dc:creator>
  <dc:description/>
  <dc:language>en-US</dc:language>
  <cp:lastModifiedBy>Sylwia</cp:lastModifiedBy>
  <cp:lastPrinted>2019-02-21T10:31:22Z</cp:lastPrinted>
  <dcterms:modified xsi:type="dcterms:W3CDTF">2019-05-21T10:34:01Z</dcterms:modified>
  <cp:revision>12</cp:revision>
  <dc:subject/>
  <dc:title>Szkolenie PS5 Zarządzanie procesami i jakością Urząd Miasta Tarnowa 14 – 15 listopada 2017</dc:title>
</cp:coreProperties>
</file>